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561-DE44-4DA0-83B5-540F7CCB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494-6098-48DA-AA11-778239C1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4EF-EC16-49F3-B836-DB73D903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65D-0F10-4872-8F4D-12DB1C48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995-2CC1-449F-BCA2-62F50F32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E6D-9BC5-4544-BBA1-F13D8087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46A-EE27-41CC-8C48-745E9E82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8EF-3BBD-41F7-807E-CC28EB7F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CED-43C7-4EA8-9CA6-9ACAB1AD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39F-57AA-462C-A285-1DE55F36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E22-5CA3-41C4-86F9-7EFC2260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9968-D6F7-4138-BF07-3395929C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D457-283B-4464-AE0F-299F7494D8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الأصدقاء جواهر نادرة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،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 هم يبهجونك ويساندوك، هم جاهزون لسماعك في أي وقت تحتاجهم هم بجانبك فاتحين قلوبهم لك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لذا أرهم مدى حبك لهم أرسل هذه الرسالة للذين ظننت أنهم أصدقاؤك الحقيقيون وغيرها من الرسائل التي تحمل معنى الصداق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26716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(( الشيء الجيد في الصداقة هو معرفة من الذي يمكن أن تستودعه سرك ويقوم بنصحك ))</a:t>
            </a:r>
            <a:br>
              <a:rPr sz="4800"/>
            </a:br>
            <a:r>
              <a:rPr b="0" lang="ar-EG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قرأ هذه الكلمات التالية وتأملها فربما تكون مفيدة لك في حيات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54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520" y="339840"/>
            <a:ext cx="8286840" cy="617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عط الناس أكثر مما يتوقعون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حب بعمق وبصدق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حبك، فلا بد أن تعنيها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بث أو تلهو أبدا بأحلام الآخرين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نا آسف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أنظر لعيني الشخص الذي تكلمه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اقب أو تصدر حكما على الآخرين وفقا لما تسمعه عنهم فق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44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24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كلم ببطء لكن فكر بسرع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ذا سألك أحدهم سؤالا لا ترغب في اجابته ابتسم واسأله: لماذا ترغب في معرفه الإجابة؟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دائم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طريق الى النجاح الكبير يتضمنه مخاطر كبير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ندما تخسر لا بد أن تستفيد من خسارتك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احترم ثلاث أشياء احترم نفسك، احترم الآخرين، احترم تصرفا</a:t>
            </a:r>
            <a:r>
              <a:rPr b="0" lang="ar-EG" sz="4000" spc="-1" strike="noStrike">
                <a:solidFill>
                  <a:srgbClr val="ff3399"/>
                </a:solidFill>
                <a:latin typeface="Arial"/>
              </a:rPr>
              <a:t>ت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ك وكن مسئولا عنها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520" y="374760"/>
            <a:ext cx="8218440" cy="61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لا تترك أي سوء تفاهم ولو كان صغيرا يدمر الصداقة العظيمة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تدرك أنك اخطأت قم بتصحيح ذلك مباشرة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بتسم عندما ترد على الهاتف، المتصل سوف يشعر بذلك في صوتك اقرأ ما بين الأسطر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أنه في بعض الأحيان، لا تنال ما تريد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ff3399"/>
                </a:solidFill>
                <a:latin typeface="Arial"/>
              </a:rPr>
              <a:t>ربما تكون محظوظا في ذلك اذا وصلت الى نهاية الرسالة، فأنت انسان مذهل، وأتوقع منك ان تعمل بما فيها وترسلها لمن تح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6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9522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38:33Z</dcterms:created>
  <dc:creator>Eman</dc:creator>
  <dc:description/>
  <dc:language>en-US</dc:language>
  <cp:lastModifiedBy>Administrator</cp:lastModifiedBy>
  <dcterms:modified xsi:type="dcterms:W3CDTF">2007-01-29T09:38:05Z</dcterms:modified>
  <cp:revision>4</cp:revision>
  <dc:subject/>
  <dc:title>قصة المسامير:  قصة رائعة ارسلها لمن تحب</dc:title>
</cp:coreProperties>
</file>